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fastsnaps.wav" ContentType="audio/x-wav"/>
  <Override PartName="/ppt/media/boinng04.wav" ContentType="audio/x-wav"/>
  <Override PartName="/ppt/media/partyhorn.wav" ContentType="audio/x-wav"/>
  <Override PartName="/ppt/media/driveby.wav" ContentType="audio/x-wav"/>
  <Override PartName="/ppt/media/planeflyby.wav" ContentType="audio/x-wav"/>
  <Override PartName="/ppt/media/zipup202.wav" ContentType="audio/x-wav"/>
  <Override PartName="/ppt/media/gunshot.wav" ContentType="audio/x-wav"/>
  <Override PartName="/ppt/media/kid%20yeah.wav" ContentType="audio/x-wav"/>
  <Override PartName="/ppt/media/lzipup01.wav" ContentType="audio/x-wav"/>
  <Override PartName="/ppt/media/oldcarhorn.wav" ContentType="audio/x-wav"/>
  <Override PartName="/ppt/media/caralarmoff.wav" ContentType="audio/x-wav"/>
  <Override PartName="/ppt/media/children%20big%20yeah.wav" ContentType="audio/x-wav"/>
  <Override PartName="/ppt/media/doorbl07.wav" ContentType="audio/x-wav"/>
  <Override PartName="/ppt/media/zapvib04.wav" ContentType="audio/x-wav"/>
  <Override PartName="/ppt/media/zipdn102.wav" ContentType="audio/x-wav"/>
  <Override PartName="/ppt/media/camera.wav" ContentType="audio/x-wav"/>
  <Override PartName="/ppt/media/highchime.wav" ContentType="audio/x-wav"/>
  <Override PartName="/ppt/media/glass.wav" ContentType="audio/x-wav"/>
  <Override PartName="/ppt/media/hzipup01.wav" ContentType="audio/x-wav"/>
  <Override PartName="/ppt/media/projctor.wav" ContentType="audio/x-wav"/>
  <Override PartName="/ppt/media/byipee04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2CAB-9905-4358-A128-C42B06EF9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8591-FFF0-41FD-9487-7405B402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8879-78AD-49E8-8938-3E80DBCF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581A-D604-4193-A5F6-8E1C2F00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7225-1BFF-4B89-951F-963E8389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BEEA-D8F7-48E5-ACAC-AD69F56F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D4DB-F7C6-4A53-84F3-0F34000F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1489-4239-4C07-869E-A765425A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3B09-4B24-49EC-9750-40E2D81D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9391-45A7-4110-9FFE-EF842859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4030-0956-457C-8040-17022F56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621C-6A8D-449F-B69F-B587997B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21FD-4C13-4405-8566-8DA40CAD4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highchime.wav"/><Relationship Id="rId4" Type="http://schemas.openxmlformats.org/officeDocument/2006/relationships/audio" Target="../media/zipdn102.wav"/><Relationship Id="rId5" Type="http://schemas.openxmlformats.org/officeDocument/2006/relationships/audio" Target="../media/glass.wav"/><Relationship Id="rId6" Type="http://schemas.openxmlformats.org/officeDocument/2006/relationships/audio" Target="../media/caralarmoff.wav"/><Relationship Id="rId7" Type="http://schemas.openxmlformats.org/officeDocument/2006/relationships/audio" Target="../media/caralarmoff.wav"/><Relationship Id="rId8" Type="http://schemas.openxmlformats.org/officeDocument/2006/relationships/audio" Target="../media/boinng04.wav"/><Relationship Id="rId9" Type="http://schemas.openxmlformats.org/officeDocument/2006/relationships/audio" Target="../media/boinng04.wav"/><Relationship Id="rId10" Type="http://schemas.openxmlformats.org/officeDocument/2006/relationships/audio" Target="../media/byipee04.wav"/><Relationship Id="rId11" Type="http://schemas.openxmlformats.org/officeDocument/2006/relationships/audio" Target="../media/byipee04.wav"/><Relationship Id="rId12" Type="http://schemas.openxmlformats.org/officeDocument/2006/relationships/audio" Target="../media/highchime.wav"/><Relationship Id="rId13" Type="http://schemas.openxmlformats.org/officeDocument/2006/relationships/audio" Target="../media/zapvib04.wav"/><Relationship Id="rId14" Type="http://schemas.openxmlformats.org/officeDocument/2006/relationships/audio" Target="../media/zapvib04.wav"/><Relationship Id="rId15" Type="http://schemas.openxmlformats.org/officeDocument/2006/relationships/audio" Target="../media/gunshot.wav"/><Relationship Id="rId16" Type="http://schemas.openxmlformats.org/officeDocument/2006/relationships/audio" Target="../media/gunshot.wav"/><Relationship Id="rId17" Type="http://schemas.openxmlformats.org/officeDocument/2006/relationships/audio" Target="../media/gunshot.wav"/><Relationship Id="rId18" Type="http://schemas.openxmlformats.org/officeDocument/2006/relationships/audio" Target="../media/gunshot.wav"/><Relationship Id="rId19" Type="http://schemas.openxmlformats.org/officeDocument/2006/relationships/audio" Target="../media/gunshot.wav"/><Relationship Id="rId20" Type="http://schemas.openxmlformats.org/officeDocument/2006/relationships/audio" Target="../media/gunshot.wav"/><Relationship Id="rId21" Type="http://schemas.openxmlformats.org/officeDocument/2006/relationships/audio" Target="../media/gunshot.wav"/><Relationship Id="rId22" Type="http://schemas.openxmlformats.org/officeDocument/2006/relationships/audio" Target="../media/gunshot.wav"/><Relationship Id="rId23" Type="http://schemas.openxmlformats.org/officeDocument/2006/relationships/audio" Target="../media/gunshot.wav"/><Relationship Id="rId24" Type="http://schemas.openxmlformats.org/officeDocument/2006/relationships/audio" Target="../media/gunshot.wav"/><Relationship Id="rId25" Type="http://schemas.openxmlformats.org/officeDocument/2006/relationships/audio" Target="../media/gunshot.wav"/><Relationship Id="rId26" Type="http://schemas.openxmlformats.org/officeDocument/2006/relationships/audio" Target="../media/gunshot.wav"/><Relationship Id="rId27" Type="http://schemas.openxmlformats.org/officeDocument/2006/relationships/audio" Target="../media/gunshot.wav"/><Relationship Id="rId28" Type="http://schemas.openxmlformats.org/officeDocument/2006/relationships/audio" Target="../media/planeflyby.wav"/><Relationship Id="rId29" Type="http://schemas.openxmlformats.org/officeDocument/2006/relationships/audio" Target="../media/boinng04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zipup202.wav"/><Relationship Id="rId2" Type="http://schemas.openxmlformats.org/officeDocument/2006/relationships/audio" Target="../media/highchime.wav"/><Relationship Id="rId3" Type="http://schemas.openxmlformats.org/officeDocument/2006/relationships/audio" Target="../media/zipup202.wav"/><Relationship Id="rId4" Type="http://schemas.openxmlformats.org/officeDocument/2006/relationships/audio" Target="../media/zipdn102.wav"/><Relationship Id="rId5" Type="http://schemas.openxmlformats.org/officeDocument/2006/relationships/audio" Target="../media/boinng04.wav"/><Relationship Id="rId6" Type="http://schemas.openxmlformats.org/officeDocument/2006/relationships/audio" Target="../media/boinng04.wav"/><Relationship Id="rId7" Type="http://schemas.openxmlformats.org/officeDocument/2006/relationships/audio" Target="../media/boinng04.wav"/><Relationship Id="rId8" Type="http://schemas.openxmlformats.org/officeDocument/2006/relationships/audio" Target="../media/doorbl07.wav"/><Relationship Id="rId9" Type="http://schemas.openxmlformats.org/officeDocument/2006/relationships/audio" Target="../media/boinng04.wav"/><Relationship Id="rId10" Type="http://schemas.openxmlformats.org/officeDocument/2006/relationships/audio" Target="../media/zipdn102.wav"/><Relationship Id="rId11" Type="http://schemas.openxmlformats.org/officeDocument/2006/relationships/audio" Target="../media/zipdn102.wav"/><Relationship Id="rId12" Type="http://schemas.openxmlformats.org/officeDocument/2006/relationships/audio" Target="../media/zipdn102.wav"/><Relationship Id="rId13" Type="http://schemas.openxmlformats.org/officeDocument/2006/relationships/audio" Target="../media/lzipup01.wav"/><Relationship Id="rId14" Type="http://schemas.openxmlformats.org/officeDocument/2006/relationships/audio" Target="../media/lzipup01.wav"/><Relationship Id="rId15" Type="http://schemas.openxmlformats.org/officeDocument/2006/relationships/audio" Target="../media/kid%20yeah.wav"/><Relationship Id="rId16" Type="http://schemas.openxmlformats.org/officeDocument/2006/relationships/audio" Target="../media/zipdn102.wav"/><Relationship Id="rId17" Type="http://schemas.openxmlformats.org/officeDocument/2006/relationships/audio" Target="../media/hzipup01.wav"/><Relationship Id="rId1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fastsnaps.wav"/><Relationship Id="rId3" Type="http://schemas.openxmlformats.org/officeDocument/2006/relationships/audio" Target="../media/fastsnaps.wav"/><Relationship Id="rId4" Type="http://schemas.openxmlformats.org/officeDocument/2006/relationships/audio" Target="../media/driveby.wav"/><Relationship Id="rId5" Type="http://schemas.openxmlformats.org/officeDocument/2006/relationships/audio" Target="../media/doorbl07.wav"/><Relationship Id="rId6" Type="http://schemas.openxmlformats.org/officeDocument/2006/relationships/audio" Target="../media/doorbl07.wav"/><Relationship Id="rId7" Type="http://schemas.openxmlformats.org/officeDocument/2006/relationships/audio" Target="../media/hzipup01.wav"/><Relationship Id="rId8" Type="http://schemas.openxmlformats.org/officeDocument/2006/relationships/audio" Target="../media/caralarmoff.wav"/><Relationship Id="rId9" Type="http://schemas.openxmlformats.org/officeDocument/2006/relationships/audio" Target="../media/hzipup01.wav"/><Relationship Id="rId10" Type="http://schemas.openxmlformats.org/officeDocument/2006/relationships/audio" Target="../media/caralarmoff.wav"/><Relationship Id="rId11" Type="http://schemas.openxmlformats.org/officeDocument/2006/relationships/audio" Target="../media/boinng04.wav"/><Relationship Id="rId12" Type="http://schemas.openxmlformats.org/officeDocument/2006/relationships/audio" Target="../media/boinng04.wav"/><Relationship Id="rId13" Type="http://schemas.openxmlformats.org/officeDocument/2006/relationships/audio" Target="../media/byipee04.wav"/><Relationship Id="rId14" Type="http://schemas.openxmlformats.org/officeDocument/2006/relationships/audio" Target="../media/byipee04.wav"/><Relationship Id="rId15" Type="http://schemas.openxmlformats.org/officeDocument/2006/relationships/audio" Target="../media/highchime.wav"/><Relationship Id="rId16" Type="http://schemas.openxmlformats.org/officeDocument/2006/relationships/audio" Target="../media/zapvib04.wav"/><Relationship Id="rId17" Type="http://schemas.openxmlformats.org/officeDocument/2006/relationships/audio" Target="../media/zapvib04.wav"/><Relationship Id="rId18" Type="http://schemas.openxmlformats.org/officeDocument/2006/relationships/audio" Target="../media/gunshot.wav"/><Relationship Id="rId19" Type="http://schemas.openxmlformats.org/officeDocument/2006/relationships/audio" Target="../media/gunshot.wav"/><Relationship Id="rId20" Type="http://schemas.openxmlformats.org/officeDocument/2006/relationships/audio" Target="../media/gunshot.wav"/><Relationship Id="rId21" Type="http://schemas.openxmlformats.org/officeDocument/2006/relationships/audio" Target="../media/gunshot.wav"/><Relationship Id="rId22" Type="http://schemas.openxmlformats.org/officeDocument/2006/relationships/audio" Target="../media/gunshot.wav"/><Relationship Id="rId23" Type="http://schemas.openxmlformats.org/officeDocument/2006/relationships/audio" Target="../media/gunshot.wav"/><Relationship Id="rId24" Type="http://schemas.openxmlformats.org/officeDocument/2006/relationships/audio" Target="../media/gunshot.wav"/><Relationship Id="rId25" Type="http://schemas.openxmlformats.org/officeDocument/2006/relationships/audio" Target="../media/gunshot.wav"/><Relationship Id="rId26" Type="http://schemas.openxmlformats.org/officeDocument/2006/relationships/audio" Target="../media/gunshot.wav"/><Relationship Id="rId27" Type="http://schemas.openxmlformats.org/officeDocument/2006/relationships/audio" Target="../media/planeflyby.wav"/><Relationship Id="rId28" Type="http://schemas.openxmlformats.org/officeDocument/2006/relationships/audio" Target="../media/boinng04.wav"/><Relationship Id="rId2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fastsnaps.wav"/><Relationship Id="rId3" Type="http://schemas.openxmlformats.org/officeDocument/2006/relationships/audio" Target="../media/fastsnaps.wav"/><Relationship Id="rId4" Type="http://schemas.openxmlformats.org/officeDocument/2006/relationships/audio" Target="../media/driveby.wav"/><Relationship Id="rId5" Type="http://schemas.openxmlformats.org/officeDocument/2006/relationships/audio" Target="../media/boinng04.wav"/><Relationship Id="rId6" Type="http://schemas.openxmlformats.org/officeDocument/2006/relationships/audio" Target="../media/boinng04.wav"/><Relationship Id="rId7" Type="http://schemas.openxmlformats.org/officeDocument/2006/relationships/audio" Target="../media/byipee04.wav"/><Relationship Id="rId8" Type="http://schemas.openxmlformats.org/officeDocument/2006/relationships/audio" Target="../media/byipee04.wav"/><Relationship Id="rId9" Type="http://schemas.openxmlformats.org/officeDocument/2006/relationships/audio" Target="../media/highchime.wav"/><Relationship Id="rId10" Type="http://schemas.openxmlformats.org/officeDocument/2006/relationships/audio" Target="../media/zapvib04.wav"/><Relationship Id="rId11" Type="http://schemas.openxmlformats.org/officeDocument/2006/relationships/audio" Target="../media/zapvib04.wav"/><Relationship Id="rId12" Type="http://schemas.openxmlformats.org/officeDocument/2006/relationships/audio" Target="../media/gunshot.wav"/><Relationship Id="rId13" Type="http://schemas.openxmlformats.org/officeDocument/2006/relationships/audio" Target="../media/gunshot.wav"/><Relationship Id="rId14" Type="http://schemas.openxmlformats.org/officeDocument/2006/relationships/audio" Target="../media/gunshot.wav"/><Relationship Id="rId15" Type="http://schemas.openxmlformats.org/officeDocument/2006/relationships/audio" Target="../media/gunshot.wav"/><Relationship Id="rId16" Type="http://schemas.openxmlformats.org/officeDocument/2006/relationships/audio" Target="../media/gunshot.wav"/><Relationship Id="rId17" Type="http://schemas.openxmlformats.org/officeDocument/2006/relationships/audio" Target="../media/gunshot.wav"/><Relationship Id="rId18" Type="http://schemas.openxmlformats.org/officeDocument/2006/relationships/audio" Target="../media/gunshot.wav"/><Relationship Id="rId19" Type="http://schemas.openxmlformats.org/officeDocument/2006/relationships/audio" Target="../media/planeflyby.wav"/><Relationship Id="rId20" Type="http://schemas.openxmlformats.org/officeDocument/2006/relationships/audio" Target="../media/boinng04.wav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fastsnaps.wav"/><Relationship Id="rId3" Type="http://schemas.openxmlformats.org/officeDocument/2006/relationships/audio" Target="../media/fastsnaps.wav"/><Relationship Id="rId4" Type="http://schemas.openxmlformats.org/officeDocument/2006/relationships/audio" Target="../media/driveby.wav"/><Relationship Id="rId5" Type="http://schemas.openxmlformats.org/officeDocument/2006/relationships/audio" Target="../media/boinng04.wav"/><Relationship Id="rId6" Type="http://schemas.openxmlformats.org/officeDocument/2006/relationships/audio" Target="../media/boinng04.wav"/><Relationship Id="rId7" Type="http://schemas.openxmlformats.org/officeDocument/2006/relationships/audio" Target="../media/zapvib04.wav"/><Relationship Id="rId8" Type="http://schemas.openxmlformats.org/officeDocument/2006/relationships/audio" Target="../media/zipdn102.wav"/><Relationship Id="rId9" Type="http://schemas.openxmlformats.org/officeDocument/2006/relationships/audio" Target="../media/boinng04.wav"/><Relationship Id="rId10" Type="http://schemas.openxmlformats.org/officeDocument/2006/relationships/audio" Target="../media/boinng04.wav"/><Relationship Id="rId11" Type="http://schemas.openxmlformats.org/officeDocument/2006/relationships/audio" Target="../media/zapvib04.wav"/><Relationship Id="rId12" Type="http://schemas.openxmlformats.org/officeDocument/2006/relationships/audio" Target="../media/zapvib04.wav"/><Relationship Id="rId13" Type="http://schemas.openxmlformats.org/officeDocument/2006/relationships/audio" Target="../media/zapvib04.wav"/><Relationship Id="rId14" Type="http://schemas.openxmlformats.org/officeDocument/2006/relationships/audio" Target="../media/zipdn102.wav"/><Relationship Id="rId15" Type="http://schemas.openxmlformats.org/officeDocument/2006/relationships/audio" Target="../media/caralarmoff.wav"/><Relationship Id="rId16" Type="http://schemas.openxmlformats.org/officeDocument/2006/relationships/audio" Target="../media/caralarmoff.wav"/><Relationship Id="rId17" Type="http://schemas.openxmlformats.org/officeDocument/2006/relationships/audio" Target="../media/children%20big%20yeah.wav"/><Relationship Id="rId18" Type="http://schemas.openxmlformats.org/officeDocument/2006/relationships/audio" Target="../media/highchime.wav"/><Relationship Id="rId19" Type="http://schemas.openxmlformats.org/officeDocument/2006/relationships/audio" Target="../media/gunshot.wav"/><Relationship Id="rId20" Type="http://schemas.openxmlformats.org/officeDocument/2006/relationships/audio" Target="../media/gunshot.wav"/><Relationship Id="rId21" Type="http://schemas.openxmlformats.org/officeDocument/2006/relationships/audio" Target="../media/gunshot.wav"/><Relationship Id="rId22" Type="http://schemas.openxmlformats.org/officeDocument/2006/relationships/audio" Target="../media/gunshot.wav"/><Relationship Id="rId23" Type="http://schemas.openxmlformats.org/officeDocument/2006/relationships/audio" Target="../media/gunshot.wav"/><Relationship Id="rId24" Type="http://schemas.openxmlformats.org/officeDocument/2006/relationships/audio" Target="../media/gunshot.wav"/><Relationship Id="rId25" Type="http://schemas.openxmlformats.org/officeDocument/2006/relationships/audio" Target="../media/gunshot.wav"/><Relationship Id="rId26" Type="http://schemas.openxmlformats.org/officeDocument/2006/relationships/audio" Target="../media/gunshot.wav"/><Relationship Id="rId27" Type="http://schemas.openxmlformats.org/officeDocument/2006/relationships/audio" Target="../media/gunshot.wav"/><Relationship Id="rId28" Type="http://schemas.openxmlformats.org/officeDocument/2006/relationships/audio" Target="../media/planeflyby.wav"/><Relationship Id="rId29" Type="http://schemas.openxmlformats.org/officeDocument/2006/relationships/audio" Target="../media/boinng04.wav"/><Relationship Id="rId30" Type="http://schemas.openxmlformats.org/officeDocument/2006/relationships/audio" Target="../media/byipee04.wav"/><Relationship Id="rId31" Type="http://schemas.openxmlformats.org/officeDocument/2006/relationships/audio" Target="../media/byipee04.wav"/><Relationship Id="rId32" Type="http://schemas.openxmlformats.org/officeDocument/2006/relationships/audio" Target="../media/byipee04.wav"/><Relationship Id="rId3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boinng04.wav"/><Relationship Id="rId3" Type="http://schemas.openxmlformats.org/officeDocument/2006/relationships/audio" Target="../media/boinng04.wav"/><Relationship Id="rId4" Type="http://schemas.openxmlformats.org/officeDocument/2006/relationships/audio" Target="../media/partyhorn.wav"/><Relationship Id="rId5" Type="http://schemas.openxmlformats.org/officeDocument/2006/relationships/audio" Target="../media/partyhorn.wav"/><Relationship Id="rId6" Type="http://schemas.openxmlformats.org/officeDocument/2006/relationships/audio" Target="../media/partyhorn.wav"/><Relationship Id="rId7" Type="http://schemas.openxmlformats.org/officeDocument/2006/relationships/audio" Target="../media/zipdn102.wav"/><Relationship Id="rId8" Type="http://schemas.openxmlformats.org/officeDocument/2006/relationships/audio" Target="../media/hzipup01.wav"/><Relationship Id="rId9" Type="http://schemas.openxmlformats.org/officeDocument/2006/relationships/audio" Target="../media/zipdn102.wav"/><Relationship Id="rId10" Type="http://schemas.openxmlformats.org/officeDocument/2006/relationships/audio" Target="../media/boinng04.wav"/><Relationship Id="rId11" Type="http://schemas.openxmlformats.org/officeDocument/2006/relationships/audio" Target="../media/boinng04.wav"/><Relationship Id="rId12" Type="http://schemas.openxmlformats.org/officeDocument/2006/relationships/audio" Target="../media/partyhorn.wav"/><Relationship Id="rId13" Type="http://schemas.openxmlformats.org/officeDocument/2006/relationships/audio" Target="../media/partyhorn.wav"/><Relationship Id="rId14" Type="http://schemas.openxmlformats.org/officeDocument/2006/relationships/audio" Target="../media/partyhorn.wav"/><Relationship Id="rId15" Type="http://schemas.openxmlformats.org/officeDocument/2006/relationships/audio" Target="../media/zipdn102.wav"/><Relationship Id="rId16" Type="http://schemas.openxmlformats.org/officeDocument/2006/relationships/audio" Target="../media/hzipup01.wav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fastsnaps.wav"/><Relationship Id="rId3" Type="http://schemas.openxmlformats.org/officeDocument/2006/relationships/audio" Target="../media/fastsnaps.wav"/><Relationship Id="rId4" Type="http://schemas.openxmlformats.org/officeDocument/2006/relationships/audio" Target="../media/driveby.wav"/><Relationship Id="rId5" Type="http://schemas.openxmlformats.org/officeDocument/2006/relationships/audio" Target="../media/boinng04.wav"/><Relationship Id="rId6" Type="http://schemas.openxmlformats.org/officeDocument/2006/relationships/audio" Target="../media/boinng04.wav"/><Relationship Id="rId7" Type="http://schemas.openxmlformats.org/officeDocument/2006/relationships/audio" Target="../media/zapvib04.wav"/><Relationship Id="rId8" Type="http://schemas.openxmlformats.org/officeDocument/2006/relationships/audio" Target="../media/zipdn102.wav"/><Relationship Id="rId9" Type="http://schemas.openxmlformats.org/officeDocument/2006/relationships/audio" Target="../media/boinng04.wav"/><Relationship Id="rId10" Type="http://schemas.openxmlformats.org/officeDocument/2006/relationships/audio" Target="../media/boinng04.wav"/><Relationship Id="rId11" Type="http://schemas.openxmlformats.org/officeDocument/2006/relationships/audio" Target="../media/zapvib04.wav"/><Relationship Id="rId12" Type="http://schemas.openxmlformats.org/officeDocument/2006/relationships/audio" Target="../media/zapvib04.wav"/><Relationship Id="rId13" Type="http://schemas.openxmlformats.org/officeDocument/2006/relationships/audio" Target="../media/zapvib04.wav"/><Relationship Id="rId14" Type="http://schemas.openxmlformats.org/officeDocument/2006/relationships/audio" Target="../media/zipdn102.wav"/><Relationship Id="rId15" Type="http://schemas.openxmlformats.org/officeDocument/2006/relationships/audio" Target="../media/caralarmoff.wav"/><Relationship Id="rId16" Type="http://schemas.openxmlformats.org/officeDocument/2006/relationships/audio" Target="../media/caralarmoff.wav"/><Relationship Id="rId17" Type="http://schemas.openxmlformats.org/officeDocument/2006/relationships/audio" Target="../media/children%20big%20yeah.wav"/><Relationship Id="rId18" Type="http://schemas.openxmlformats.org/officeDocument/2006/relationships/audio" Target="../media/highchime.wav"/><Relationship Id="rId19" Type="http://schemas.openxmlformats.org/officeDocument/2006/relationships/audio" Target="../media/gunshot.wav"/><Relationship Id="rId20" Type="http://schemas.openxmlformats.org/officeDocument/2006/relationships/audio" Target="../media/gunshot.wav"/><Relationship Id="rId21" Type="http://schemas.openxmlformats.org/officeDocument/2006/relationships/audio" Target="../media/gunshot.wav"/><Relationship Id="rId22" Type="http://schemas.openxmlformats.org/officeDocument/2006/relationships/audio" Target="../media/gunshot.wav"/><Relationship Id="rId23" Type="http://schemas.openxmlformats.org/officeDocument/2006/relationships/audio" Target="../media/gunshot.wav"/><Relationship Id="rId24" Type="http://schemas.openxmlformats.org/officeDocument/2006/relationships/audio" Target="../media/gunshot.wav"/><Relationship Id="rId25" Type="http://schemas.openxmlformats.org/officeDocument/2006/relationships/audio" Target="../media/gunshot.wav"/><Relationship Id="rId26" Type="http://schemas.openxmlformats.org/officeDocument/2006/relationships/audio" Target="../media/planeflyby.wav"/><Relationship Id="rId27" Type="http://schemas.openxmlformats.org/officeDocument/2006/relationships/audio" Target="../media/oldcarhorn.wav"/><Relationship Id="rId28" Type="http://schemas.openxmlformats.org/officeDocument/2006/relationships/audio" Target="../media/byipee04.wav"/><Relationship Id="rId29" Type="http://schemas.openxmlformats.org/officeDocument/2006/relationships/audio" Target="../media/byipee04.wav"/><Relationship Id="rId30" Type="http://schemas.openxmlformats.org/officeDocument/2006/relationships/audio" Target="../media/byipee04.wav"/><Relationship Id="rId3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boinng04.wav"/><Relationship Id="rId3" Type="http://schemas.openxmlformats.org/officeDocument/2006/relationships/audio" Target="../media/boinng04.wav"/><Relationship Id="rId4" Type="http://schemas.openxmlformats.org/officeDocument/2006/relationships/audio" Target="../media/partyhorn.wav"/><Relationship Id="rId5" Type="http://schemas.openxmlformats.org/officeDocument/2006/relationships/audio" Target="../media/partyhorn.wav"/><Relationship Id="rId6" Type="http://schemas.openxmlformats.org/officeDocument/2006/relationships/audio" Target="../media/partyhorn.wav"/><Relationship Id="rId7" Type="http://schemas.openxmlformats.org/officeDocument/2006/relationships/audio" Target="../media/zipdn102.wav"/><Relationship Id="rId8" Type="http://schemas.openxmlformats.org/officeDocument/2006/relationships/audio" Target="../media/hzipup01.wav"/><Relationship Id="rId9" Type="http://schemas.openxmlformats.org/officeDocument/2006/relationships/audio" Target="../media/zipdn102.wav"/><Relationship Id="rId10" Type="http://schemas.openxmlformats.org/officeDocument/2006/relationships/audio" Target="../media/boinng04.wav"/><Relationship Id="rId11" Type="http://schemas.openxmlformats.org/officeDocument/2006/relationships/audio" Target="../media/boinng04.wav"/><Relationship Id="rId12" Type="http://schemas.openxmlformats.org/officeDocument/2006/relationships/audio" Target="../media/partyhorn.wav"/><Relationship Id="rId13" Type="http://schemas.openxmlformats.org/officeDocument/2006/relationships/audio" Target="../media/partyhorn.wav"/><Relationship Id="rId14" Type="http://schemas.openxmlformats.org/officeDocument/2006/relationships/audio" Target="../media/partyhorn.wav"/><Relationship Id="rId15" Type="http://schemas.openxmlformats.org/officeDocument/2006/relationships/audio" Target="../media/zipdn102.wav"/><Relationship Id="rId16" Type="http://schemas.openxmlformats.org/officeDocument/2006/relationships/audio" Target="../media/hzipup01.wav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fastsnaps.wav"/><Relationship Id="rId3" Type="http://schemas.openxmlformats.org/officeDocument/2006/relationships/audio" Target="../media/fastsnaps.wav"/><Relationship Id="rId4" Type="http://schemas.openxmlformats.org/officeDocument/2006/relationships/audio" Target="../media/driveby.wav"/><Relationship Id="rId5" Type="http://schemas.openxmlformats.org/officeDocument/2006/relationships/audio" Target="../media/boinng04.wav"/><Relationship Id="rId6" Type="http://schemas.openxmlformats.org/officeDocument/2006/relationships/audio" Target="../media/boinng04.wav"/><Relationship Id="rId7" Type="http://schemas.openxmlformats.org/officeDocument/2006/relationships/audio" Target="../media/zapvib04.wav"/><Relationship Id="rId8" Type="http://schemas.openxmlformats.org/officeDocument/2006/relationships/audio" Target="../media/zipdn102.wav"/><Relationship Id="rId9" Type="http://schemas.openxmlformats.org/officeDocument/2006/relationships/audio" Target="../media/boinng04.wav"/><Relationship Id="rId10" Type="http://schemas.openxmlformats.org/officeDocument/2006/relationships/audio" Target="../media/boinng04.wav"/><Relationship Id="rId11" Type="http://schemas.openxmlformats.org/officeDocument/2006/relationships/audio" Target="../media/zapvib04.wav"/><Relationship Id="rId12" Type="http://schemas.openxmlformats.org/officeDocument/2006/relationships/audio" Target="../media/zapvib04.wav"/><Relationship Id="rId13" Type="http://schemas.openxmlformats.org/officeDocument/2006/relationships/audio" Target="../media/zapvib04.wav"/><Relationship Id="rId14" Type="http://schemas.openxmlformats.org/officeDocument/2006/relationships/audio" Target="../media/zipdn102.wav"/><Relationship Id="rId15" Type="http://schemas.openxmlformats.org/officeDocument/2006/relationships/audio" Target="../media/caralarmoff.wav"/><Relationship Id="rId16" Type="http://schemas.openxmlformats.org/officeDocument/2006/relationships/audio" Target="../media/caralarmoff.wav"/><Relationship Id="rId17" Type="http://schemas.openxmlformats.org/officeDocument/2006/relationships/audio" Target="../media/children%20big%20yeah.wav"/><Relationship Id="rId18" Type="http://schemas.openxmlformats.org/officeDocument/2006/relationships/audio" Target="../media/highchime.wav"/><Relationship Id="rId19" Type="http://schemas.openxmlformats.org/officeDocument/2006/relationships/audio" Target="../media/gunshot.wav"/><Relationship Id="rId20" Type="http://schemas.openxmlformats.org/officeDocument/2006/relationships/audio" Target="../media/gunshot.wav"/><Relationship Id="rId21" Type="http://schemas.openxmlformats.org/officeDocument/2006/relationships/audio" Target="../media/gunshot.wav"/><Relationship Id="rId22" Type="http://schemas.openxmlformats.org/officeDocument/2006/relationships/audio" Target="../media/gunshot.wav"/><Relationship Id="rId23" Type="http://schemas.openxmlformats.org/officeDocument/2006/relationships/audio" Target="../media/gunshot.wav"/><Relationship Id="rId24" Type="http://schemas.openxmlformats.org/officeDocument/2006/relationships/audio" Target="../media/gunshot.wav"/><Relationship Id="rId25" Type="http://schemas.openxmlformats.org/officeDocument/2006/relationships/audio" Target="../media/gunshot.wav"/><Relationship Id="rId26" Type="http://schemas.openxmlformats.org/officeDocument/2006/relationships/audio" Target="../media/gunshot.wav"/><Relationship Id="rId27" Type="http://schemas.openxmlformats.org/officeDocument/2006/relationships/audio" Target="../media/gunshot.wav"/><Relationship Id="rId28" Type="http://schemas.openxmlformats.org/officeDocument/2006/relationships/audio" Target="../media/planeflyby.wav"/><Relationship Id="rId29" Type="http://schemas.openxmlformats.org/officeDocument/2006/relationships/audio" Target="../media/boinng04.wav"/><Relationship Id="rId30" Type="http://schemas.openxmlformats.org/officeDocument/2006/relationships/audio" Target="../media/byipee04.wav"/><Relationship Id="rId31" Type="http://schemas.openxmlformats.org/officeDocument/2006/relationships/audio" Target="../media/byipee04.wav"/><Relationship Id="rId32" Type="http://schemas.openxmlformats.org/officeDocument/2006/relationships/audio" Target="../media/byipee04.wav"/><Relationship Id="rId3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boinng04.wav"/><Relationship Id="rId3" Type="http://schemas.openxmlformats.org/officeDocument/2006/relationships/audio" Target="../media/boinng04.wav"/><Relationship Id="rId4" Type="http://schemas.openxmlformats.org/officeDocument/2006/relationships/audio" Target="../media/partyhorn.wav"/><Relationship Id="rId5" Type="http://schemas.openxmlformats.org/officeDocument/2006/relationships/audio" Target="../media/partyhorn.wav"/><Relationship Id="rId6" Type="http://schemas.openxmlformats.org/officeDocument/2006/relationships/audio" Target="../media/partyhorn.wav"/><Relationship Id="rId7" Type="http://schemas.openxmlformats.org/officeDocument/2006/relationships/audio" Target="../media/zipdn102.wav"/><Relationship Id="rId8" Type="http://schemas.openxmlformats.org/officeDocument/2006/relationships/audio" Target="../media/hzipup01.wav"/><Relationship Id="rId9" Type="http://schemas.openxmlformats.org/officeDocument/2006/relationships/audio" Target="../media/zipdn102.wav"/><Relationship Id="rId10" Type="http://schemas.openxmlformats.org/officeDocument/2006/relationships/audio" Target="../media/boinng04.wav"/><Relationship Id="rId11" Type="http://schemas.openxmlformats.org/officeDocument/2006/relationships/audio" Target="../media/boinng04.wav"/><Relationship Id="rId12" Type="http://schemas.openxmlformats.org/officeDocument/2006/relationships/audio" Target="../media/partyhorn.wav"/><Relationship Id="rId13" Type="http://schemas.openxmlformats.org/officeDocument/2006/relationships/audio" Target="../media/partyhorn.wav"/><Relationship Id="rId14" Type="http://schemas.openxmlformats.org/officeDocument/2006/relationships/audio" Target="../media/partyhorn.wav"/><Relationship Id="rId15" Type="http://schemas.openxmlformats.org/officeDocument/2006/relationships/audio" Target="../media/zipdn102.wav"/><Relationship Id="rId16" Type="http://schemas.openxmlformats.org/officeDocument/2006/relationships/audio" Target="../media/hzipup01.wav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094360" y="3446640"/>
            <a:ext cx="2800440" cy="377640"/>
            <a:chOff x="5094360" y="3446640"/>
            <a:chExt cx="2800440" cy="377640"/>
          </a:xfrm>
        </p:grpSpPr>
        <p:sp>
          <p:nvSpPr>
            <p:cNvPr id="42" name=""/>
            <p:cNvSpPr/>
            <p:nvPr/>
          </p:nvSpPr>
          <p:spPr>
            <a:xfrm>
              <a:off x="7388280" y="3462480"/>
              <a:ext cx="506520" cy="361800"/>
            </a:xfrm>
            <a:prstGeom prst="ellipse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094360" y="3446640"/>
              <a:ext cx="506520" cy="361800"/>
            </a:xfrm>
            <a:prstGeom prst="ellipse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ecking a Solution Using a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657360" y="3395520"/>
                <a:ext cx="305748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388800" y="1284120"/>
            <a:ext cx="8521920" cy="1191240"/>
          </a:xfrm>
          <a:prstGeom prst="rect">
            <a:avLst/>
          </a:prstGeom>
          <a:solidFill>
            <a:srgbClr val="ff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olution, or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roots</a:t>
            </a: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f an equation                   are th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intercep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2360" y="2529000"/>
            <a:ext cx="889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 algebraically. Check the solutions graphic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033560" y="3730680"/>
                <a:ext cx="8208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325680" y="3668760"/>
                <a:ext cx="8208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919160" y="4433760"/>
                <a:ext cx="6858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639880" y="4514760"/>
                <a:ext cx="11430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101680" y="5262480"/>
                <a:ext cx="96048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944800" y="5111640"/>
                <a:ext cx="8240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5" name=""/>
          <p:cNvGrpSpPr/>
          <p:nvPr/>
        </p:nvGrpSpPr>
        <p:grpSpPr>
          <a:xfrm>
            <a:off x="4859280" y="3188880"/>
            <a:ext cx="3754440" cy="3429000"/>
            <a:chOff x="4859280" y="3188880"/>
            <a:chExt cx="3754440" cy="3429000"/>
          </a:xfrm>
        </p:grpSpPr>
        <p:grpSp>
          <p:nvGrpSpPr>
            <p:cNvPr id="56" name=""/>
            <p:cNvGrpSpPr/>
            <p:nvPr/>
          </p:nvGrpSpPr>
          <p:grpSpPr>
            <a:xfrm>
              <a:off x="4952880" y="3263760"/>
              <a:ext cx="3428640" cy="3276360"/>
              <a:chOff x="4952880" y="3263760"/>
              <a:chExt cx="3428640" cy="3276360"/>
            </a:xfrm>
          </p:grpSpPr>
          <p:sp>
            <p:nvSpPr>
              <p:cNvPr id="57" name=""/>
              <p:cNvSpPr/>
              <p:nvPr/>
            </p:nvSpPr>
            <p:spPr>
              <a:xfrm>
                <a:off x="5714640" y="326376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476760" y="3263760"/>
                <a:ext cx="38052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238520" y="326376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000640" y="326376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952880" y="326376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952880" y="326376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952880" y="362772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52880" y="399168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952880" y="435564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952880" y="471996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952880" y="508392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952880" y="544788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952880" y="581220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952880" y="617616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 flipV="1">
              <a:off x="6505560" y="3188880"/>
              <a:ext cx="0" cy="3429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859280" y="3616200"/>
              <a:ext cx="3754440" cy="1800"/>
            </a:xfrm>
            <a:custGeom>
              <a:avLst/>
              <a:gdLst/>
              <a:ahLst/>
              <a:rect l="l" t="t" r="r" b="b"/>
              <a:pathLst>
                <a:path w="2365" h="1">
                  <a:moveTo>
                    <a:pt x="0" y="0"/>
                  </a:moveTo>
                  <a:lnTo>
                    <a:pt x="2365" y="0"/>
                  </a:lnTo>
                </a:path>
              </a:pathLst>
            </a:custGeom>
            <a:noFill/>
            <a:ln w="5724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35080" y="5686560"/>
                <a:ext cx="246060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827440" y="5979960"/>
                <a:ext cx="17794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6611760" y="567216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13600" y="568152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21320" y="574848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06960" y="55357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99320" y="553392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29480" y="518148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994440" y="518004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49840" y="48085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64360" y="480708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51480" y="419904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54800" y="4197240"/>
            <a:ext cx="15264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68960" y="35323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42360" y="356868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34040" y="3191040"/>
            <a:ext cx="2489040" cy="2646360"/>
          </a:xfrm>
          <a:custGeom>
            <a:avLst/>
            <a:gdLst/>
            <a:ahLst/>
            <a:rect l="l" t="t" r="r" b="b"/>
            <a:pathLst>
              <a:path w="1568" h="1667">
                <a:moveTo>
                  <a:pt x="0" y="24"/>
                </a:moveTo>
                <a:cubicBezTo>
                  <a:pt x="21" y="90"/>
                  <a:pt x="42" y="157"/>
                  <a:pt x="73" y="269"/>
                </a:cubicBezTo>
                <a:cubicBezTo>
                  <a:pt x="104" y="381"/>
                  <a:pt x="145" y="565"/>
                  <a:pt x="184" y="698"/>
                </a:cubicBezTo>
                <a:cubicBezTo>
                  <a:pt x="223" y="831"/>
                  <a:pt x="265" y="964"/>
                  <a:pt x="306" y="1066"/>
                </a:cubicBezTo>
                <a:cubicBezTo>
                  <a:pt x="347" y="1168"/>
                  <a:pt x="390" y="1231"/>
                  <a:pt x="429" y="1311"/>
                </a:cubicBezTo>
                <a:cubicBezTo>
                  <a:pt x="468" y="1391"/>
                  <a:pt x="500" y="1493"/>
                  <a:pt x="539" y="1544"/>
                </a:cubicBezTo>
                <a:cubicBezTo>
                  <a:pt x="578" y="1595"/>
                  <a:pt x="618" y="1598"/>
                  <a:pt x="661" y="1618"/>
                </a:cubicBezTo>
                <a:cubicBezTo>
                  <a:pt x="704" y="1638"/>
                  <a:pt x="753" y="1667"/>
                  <a:pt x="796" y="1667"/>
                </a:cubicBezTo>
                <a:cubicBezTo>
                  <a:pt x="839" y="1667"/>
                  <a:pt x="880" y="1642"/>
                  <a:pt x="919" y="1618"/>
                </a:cubicBezTo>
                <a:cubicBezTo>
                  <a:pt x="958" y="1594"/>
                  <a:pt x="988" y="1573"/>
                  <a:pt x="1029" y="1520"/>
                </a:cubicBezTo>
                <a:cubicBezTo>
                  <a:pt x="1070" y="1467"/>
                  <a:pt x="1125" y="1375"/>
                  <a:pt x="1164" y="1299"/>
                </a:cubicBezTo>
                <a:cubicBezTo>
                  <a:pt x="1203" y="1223"/>
                  <a:pt x="1225" y="1168"/>
                  <a:pt x="1262" y="1066"/>
                </a:cubicBezTo>
                <a:cubicBezTo>
                  <a:pt x="1299" y="964"/>
                  <a:pt x="1344" y="819"/>
                  <a:pt x="1385" y="686"/>
                </a:cubicBezTo>
                <a:cubicBezTo>
                  <a:pt x="1426" y="553"/>
                  <a:pt x="1477" y="383"/>
                  <a:pt x="1507" y="269"/>
                </a:cubicBezTo>
                <a:cubicBezTo>
                  <a:pt x="1537" y="155"/>
                  <a:pt x="1558" y="45"/>
                  <a:pt x="1568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"/>
          <p:cNvGrpSpPr/>
          <p:nvPr/>
        </p:nvGrpSpPr>
        <p:grpSpPr>
          <a:xfrm>
            <a:off x="266760" y="3106800"/>
            <a:ext cx="8172360" cy="776160"/>
            <a:chOff x="266760" y="3106800"/>
            <a:chExt cx="8172360" cy="776160"/>
          </a:xfrm>
        </p:grpSpPr>
        <mc:AlternateContent>
          <mc:Choice xmlns:a14="http://schemas.microsoft.com/office/drawing/2010/main" Requires="a14">
            <p:sp>
              <p:nvSpPr>
                <p:cNvPr id="423" name=""/>
                <p:cNvSpPr txBox="1"/>
                <p:nvPr/>
              </p:nvSpPr>
              <p:spPr>
                <a:xfrm>
                  <a:off x="1181160" y="3106800"/>
                  <a:ext cx="7257960" cy="77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3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     </m:t>
                          </m:r>
                        </m:e>
                      </m:d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8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   </m:t>
                          </m:r>
                        </m:e>
                      </m:d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5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7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4" name=""/>
                <p:cNvSpPr txBox="1"/>
                <p:nvPr/>
              </p:nvSpPr>
              <p:spPr>
                <a:xfrm>
                  <a:off x="5819760" y="3149640"/>
                  <a:ext cx="411120" cy="63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5" name=""/>
                <p:cNvSpPr txBox="1"/>
                <p:nvPr/>
              </p:nvSpPr>
              <p:spPr>
                <a:xfrm>
                  <a:off x="266760" y="3184560"/>
                  <a:ext cx="1004760" cy="63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1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2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Quadratic Equations in Real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8600" y="12970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7. Algebraically check the solution in Example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90520" y="1749600"/>
            <a:ext cx="840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gistration appears to be about 210 dolla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1170000" y="2325600"/>
                <a:ext cx="72136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258840" y="2455920"/>
                <a:ext cx="10047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5788080" y="2432160"/>
                <a:ext cx="40968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3076560" y="3174840"/>
                <a:ext cx="73044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263520" y="3956040"/>
                <a:ext cx="30574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3232080" y="3949560"/>
                <a:ext cx="150660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4670280" y="3948120"/>
                <a:ext cx="20084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3081240" y="2452680"/>
                <a:ext cx="4111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312840" y="4645080"/>
                <a:ext cx="27381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2936880" y="4626000"/>
                <a:ext cx="20080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325440" y="5440320"/>
                <a:ext cx="30574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1" name=""/>
          <p:cNvSpPr/>
          <p:nvPr/>
        </p:nvSpPr>
        <p:spPr>
          <a:xfrm>
            <a:off x="3341520" y="5716440"/>
            <a:ext cx="117720" cy="155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438360" y="5560560"/>
            <a:ext cx="233640" cy="311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500"/>
                            </p:stCondLst>
                            <p:childTnLst>
                              <p:par>
                                <p:cTn id="1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kid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500"/>
                            </p:stCondLst>
                            <p:childTnLst>
                              <p:par>
                                <p:cTn id="1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9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4703760" y="2103480"/>
            <a:ext cx="3596760" cy="337680"/>
            <a:chOff x="4703760" y="2103480"/>
            <a:chExt cx="3596760" cy="337680"/>
          </a:xfrm>
        </p:grpSpPr>
        <p:sp>
          <p:nvSpPr>
            <p:cNvPr id="90" name=""/>
            <p:cNvSpPr/>
            <p:nvPr/>
          </p:nvSpPr>
          <p:spPr>
            <a:xfrm>
              <a:off x="7650000" y="2117520"/>
              <a:ext cx="650520" cy="323640"/>
            </a:xfrm>
            <a:prstGeom prst="ellipse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03760" y="2103480"/>
              <a:ext cx="650520" cy="323640"/>
            </a:xfrm>
            <a:prstGeom prst="ellipse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ecking a Solution Using a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34800" y="2162160"/>
                <a:ext cx="3741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252360" y="1168560"/>
            <a:ext cx="889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 algebraically. Check the solutions graphic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368440" y="3840120"/>
                <a:ext cx="4096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365200" y="4317840"/>
                <a:ext cx="685800" cy="7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013200" y="4398840"/>
                <a:ext cx="10969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511360" y="5086440"/>
                <a:ext cx="9604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332160" y="4957920"/>
                <a:ext cx="8701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1" name=""/>
          <p:cNvGrpSpPr/>
          <p:nvPr/>
        </p:nvGrpSpPr>
        <p:grpSpPr>
          <a:xfrm>
            <a:off x="4859280" y="1828440"/>
            <a:ext cx="3754440" cy="3429000"/>
            <a:chOff x="4859280" y="1828440"/>
            <a:chExt cx="3754440" cy="3429000"/>
          </a:xfrm>
        </p:grpSpPr>
        <p:grpSp>
          <p:nvGrpSpPr>
            <p:cNvPr id="102" name=""/>
            <p:cNvGrpSpPr/>
            <p:nvPr/>
          </p:nvGrpSpPr>
          <p:grpSpPr>
            <a:xfrm>
              <a:off x="4952880" y="1903320"/>
              <a:ext cx="3428640" cy="3276360"/>
              <a:chOff x="4952880" y="1903320"/>
              <a:chExt cx="3428640" cy="3276360"/>
            </a:xfrm>
          </p:grpSpPr>
          <p:sp>
            <p:nvSpPr>
              <p:cNvPr id="103" name=""/>
              <p:cNvSpPr/>
              <p:nvPr/>
            </p:nvSpPr>
            <p:spPr>
              <a:xfrm>
                <a:off x="5714640" y="19033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476760" y="1903320"/>
                <a:ext cx="38052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238520" y="19033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000640" y="19033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952880" y="19033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952880" y="190332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952880" y="226728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952880" y="263124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952880" y="299520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952880" y="335952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952880" y="372348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952880" y="408744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952880" y="445176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952880" y="481572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 flipV="1">
              <a:off x="6505560" y="1828440"/>
              <a:ext cx="0" cy="3429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59280" y="2255760"/>
              <a:ext cx="3754440" cy="1800"/>
            </a:xfrm>
            <a:custGeom>
              <a:avLst/>
              <a:gdLst/>
              <a:ahLst/>
              <a:rect l="l" t="t" r="r" b="b"/>
              <a:pathLst>
                <a:path w="2365" h="1">
                  <a:moveTo>
                    <a:pt x="0" y="0"/>
                  </a:moveTo>
                  <a:lnTo>
                    <a:pt x="2365" y="0"/>
                  </a:lnTo>
                </a:path>
              </a:pathLst>
            </a:custGeom>
            <a:noFill/>
            <a:ln w="5724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351000" y="5816520"/>
                <a:ext cx="279072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294000" y="5921280"/>
                <a:ext cx="17794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6786720" y="423396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424332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21320" y="4387680"/>
            <a:ext cx="15264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38680" y="38275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48520" y="382284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96000" y="21877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29720" y="218592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219400" y="2733840"/>
                <a:ext cx="82224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265560" y="2709720"/>
                <a:ext cx="8222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1284120" y="3287880"/>
            <a:ext cx="284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151000" y="3209760"/>
                <a:ext cx="959040" cy="7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971800" y="3270240"/>
                <a:ext cx="11415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2158920" y="3871800"/>
            <a:ext cx="7588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589200" y="3838680"/>
                <a:ext cx="40968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3379680" y="3870360"/>
            <a:ext cx="7588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57800" y="313848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50280" y="31543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44880" y="1731960"/>
            <a:ext cx="3287880" cy="2746440"/>
          </a:xfrm>
          <a:custGeom>
            <a:avLst/>
            <a:gdLst/>
            <a:ahLst/>
            <a:rect l="l" t="t" r="r" b="b"/>
            <a:pathLst>
              <a:path w="2071" h="1730">
                <a:moveTo>
                  <a:pt x="0" y="49"/>
                </a:moveTo>
                <a:cubicBezTo>
                  <a:pt x="17" y="121"/>
                  <a:pt x="34" y="194"/>
                  <a:pt x="85" y="343"/>
                </a:cubicBezTo>
                <a:cubicBezTo>
                  <a:pt x="136" y="492"/>
                  <a:pt x="228" y="769"/>
                  <a:pt x="306" y="943"/>
                </a:cubicBezTo>
                <a:cubicBezTo>
                  <a:pt x="384" y="1117"/>
                  <a:pt x="471" y="1269"/>
                  <a:pt x="551" y="1385"/>
                </a:cubicBezTo>
                <a:cubicBezTo>
                  <a:pt x="631" y="1501"/>
                  <a:pt x="702" y="1585"/>
                  <a:pt x="784" y="1642"/>
                </a:cubicBezTo>
                <a:cubicBezTo>
                  <a:pt x="866" y="1699"/>
                  <a:pt x="959" y="1730"/>
                  <a:pt x="1041" y="1728"/>
                </a:cubicBezTo>
                <a:cubicBezTo>
                  <a:pt x="1123" y="1726"/>
                  <a:pt x="1196" y="1691"/>
                  <a:pt x="1274" y="1630"/>
                </a:cubicBezTo>
                <a:cubicBezTo>
                  <a:pt x="1352" y="1569"/>
                  <a:pt x="1427" y="1475"/>
                  <a:pt x="1507" y="1360"/>
                </a:cubicBezTo>
                <a:cubicBezTo>
                  <a:pt x="1587" y="1245"/>
                  <a:pt x="1672" y="1114"/>
                  <a:pt x="1752" y="943"/>
                </a:cubicBezTo>
                <a:cubicBezTo>
                  <a:pt x="1832" y="772"/>
                  <a:pt x="1932" y="488"/>
                  <a:pt x="1985" y="331"/>
                </a:cubicBezTo>
                <a:cubicBezTo>
                  <a:pt x="2038" y="174"/>
                  <a:pt x="2057" y="55"/>
                  <a:pt x="2071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5172120" y="2122560"/>
            <a:ext cx="2741040" cy="280440"/>
            <a:chOff x="5172120" y="2122560"/>
            <a:chExt cx="2741040" cy="280440"/>
          </a:xfrm>
        </p:grpSpPr>
        <p:sp>
          <p:nvSpPr>
            <p:cNvPr id="140" name=""/>
            <p:cNvSpPr/>
            <p:nvPr/>
          </p:nvSpPr>
          <p:spPr>
            <a:xfrm>
              <a:off x="7417440" y="2134080"/>
              <a:ext cx="495720" cy="268920"/>
            </a:xfrm>
            <a:prstGeom prst="ellipse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72120" y="2122560"/>
              <a:ext cx="495720" cy="268920"/>
            </a:xfrm>
            <a:prstGeom prst="ellipse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ecking a Solution Using a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741240" y="2162160"/>
                <a:ext cx="32403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252360" y="1168560"/>
            <a:ext cx="889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 algebraically. Check the solutions graphic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462040" y="3208320"/>
                <a:ext cx="6858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224160" y="3289320"/>
                <a:ext cx="8683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608200" y="3976560"/>
                <a:ext cx="96048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451320" y="3825720"/>
                <a:ext cx="82368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0" name=""/>
          <p:cNvGrpSpPr/>
          <p:nvPr/>
        </p:nvGrpSpPr>
        <p:grpSpPr>
          <a:xfrm>
            <a:off x="4859280" y="1828440"/>
            <a:ext cx="3754440" cy="3429000"/>
            <a:chOff x="4859280" y="1828440"/>
            <a:chExt cx="3754440" cy="3429000"/>
          </a:xfrm>
        </p:grpSpPr>
        <p:grpSp>
          <p:nvGrpSpPr>
            <p:cNvPr id="151" name=""/>
            <p:cNvGrpSpPr/>
            <p:nvPr/>
          </p:nvGrpSpPr>
          <p:grpSpPr>
            <a:xfrm>
              <a:off x="4952880" y="1903320"/>
              <a:ext cx="3428640" cy="3276360"/>
              <a:chOff x="4952880" y="1903320"/>
              <a:chExt cx="3428640" cy="3276360"/>
            </a:xfrm>
          </p:grpSpPr>
          <p:sp>
            <p:nvSpPr>
              <p:cNvPr id="152" name=""/>
              <p:cNvSpPr/>
              <p:nvPr/>
            </p:nvSpPr>
            <p:spPr>
              <a:xfrm>
                <a:off x="5714640" y="19033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476760" y="1903320"/>
                <a:ext cx="38052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238520" y="19033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000640" y="19033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952880" y="19033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952880" y="190332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952880" y="226728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952880" y="263124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52880" y="299520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952880" y="335952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952880" y="372348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952880" y="408744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952880" y="445176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952880" y="481572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 flipV="1">
              <a:off x="6505560" y="1828440"/>
              <a:ext cx="0" cy="3429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59280" y="2255760"/>
              <a:ext cx="3754440" cy="1800"/>
            </a:xfrm>
            <a:custGeom>
              <a:avLst/>
              <a:gdLst/>
              <a:ahLst/>
              <a:rect l="l" t="t" r="r" b="b"/>
              <a:pathLst>
                <a:path w="2365" h="1">
                  <a:moveTo>
                    <a:pt x="0" y="0"/>
                  </a:moveTo>
                  <a:lnTo>
                    <a:pt x="2365" y="0"/>
                  </a:lnTo>
                </a:path>
              </a:pathLst>
            </a:custGeom>
            <a:noFill/>
            <a:ln w="5724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800360" y="4454640"/>
                <a:ext cx="230328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044800" y="5261040"/>
                <a:ext cx="20239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314440" y="2711520"/>
                <a:ext cx="8668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243240" y="2687760"/>
                <a:ext cx="86832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1284120" y="3287880"/>
            <a:ext cx="284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506880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37200" y="509436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40400" y="54547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56320" y="399564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88120" y="39751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64280" y="218448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577280" y="218268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29080" y="2136600"/>
            <a:ext cx="2335320" cy="3405240"/>
          </a:xfrm>
          <a:custGeom>
            <a:avLst/>
            <a:gdLst/>
            <a:ahLst/>
            <a:rect l="l" t="t" r="r" b="b"/>
            <a:pathLst>
              <a:path w="1471" h="1998">
                <a:moveTo>
                  <a:pt x="0" y="0"/>
                </a:moveTo>
                <a:cubicBezTo>
                  <a:pt x="88" y="386"/>
                  <a:pt x="176" y="773"/>
                  <a:pt x="258" y="1067"/>
                </a:cubicBezTo>
                <a:cubicBezTo>
                  <a:pt x="340" y="1361"/>
                  <a:pt x="407" y="1610"/>
                  <a:pt x="491" y="1765"/>
                </a:cubicBezTo>
                <a:cubicBezTo>
                  <a:pt x="575" y="1920"/>
                  <a:pt x="680" y="1998"/>
                  <a:pt x="760" y="1998"/>
                </a:cubicBezTo>
                <a:cubicBezTo>
                  <a:pt x="840" y="1998"/>
                  <a:pt x="891" y="1922"/>
                  <a:pt x="969" y="1765"/>
                </a:cubicBezTo>
                <a:cubicBezTo>
                  <a:pt x="1047" y="1608"/>
                  <a:pt x="1142" y="1346"/>
                  <a:pt x="1226" y="1054"/>
                </a:cubicBezTo>
                <a:cubicBezTo>
                  <a:pt x="1310" y="762"/>
                  <a:pt x="1430" y="187"/>
                  <a:pt x="1471" y="13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4629240" y="2103480"/>
            <a:ext cx="3227040" cy="280440"/>
            <a:chOff x="4629240" y="2103480"/>
            <a:chExt cx="3227040" cy="280440"/>
          </a:xfrm>
        </p:grpSpPr>
        <p:sp>
          <p:nvSpPr>
            <p:cNvPr id="182" name=""/>
            <p:cNvSpPr/>
            <p:nvPr/>
          </p:nvSpPr>
          <p:spPr>
            <a:xfrm>
              <a:off x="7272720" y="2115000"/>
              <a:ext cx="583560" cy="268920"/>
            </a:xfrm>
            <a:prstGeom prst="ellipse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29240" y="2103480"/>
              <a:ext cx="583560" cy="268920"/>
            </a:xfrm>
            <a:prstGeom prst="ellipse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n Equation Graph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65200" y="2124000"/>
                <a:ext cx="35146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252360" y="1168560"/>
            <a:ext cx="889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 graphically. Check the solutions algebraic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28640" y="3247920"/>
                <a:ext cx="25592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224160" y="3289320"/>
                <a:ext cx="8683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0" name=""/>
          <p:cNvGrpSpPr/>
          <p:nvPr/>
        </p:nvGrpSpPr>
        <p:grpSpPr>
          <a:xfrm>
            <a:off x="7218360" y="5234040"/>
            <a:ext cx="1673280" cy="1341360"/>
            <a:chOff x="7218360" y="5234040"/>
            <a:chExt cx="1673280" cy="1341360"/>
          </a:xfrm>
        </p:grpSpPr>
        <p:sp>
          <p:nvSpPr>
            <p:cNvPr id="191" name=""/>
            <p:cNvSpPr/>
            <p:nvPr/>
          </p:nvSpPr>
          <p:spPr>
            <a:xfrm>
              <a:off x="7218360" y="5234040"/>
              <a:ext cx="1673280" cy="134136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7529400" y="5357880"/>
                  <a:ext cx="960480" cy="50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7311960" y="5881680"/>
                <a:ext cx="9604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4" name=""/>
          <p:cNvGrpSpPr/>
          <p:nvPr/>
        </p:nvGrpSpPr>
        <p:grpSpPr>
          <a:xfrm>
            <a:off x="4859280" y="1828440"/>
            <a:ext cx="3754440" cy="3429000"/>
            <a:chOff x="4859280" y="1828440"/>
            <a:chExt cx="3754440" cy="3429000"/>
          </a:xfrm>
        </p:grpSpPr>
        <p:grpSp>
          <p:nvGrpSpPr>
            <p:cNvPr id="195" name=""/>
            <p:cNvGrpSpPr/>
            <p:nvPr/>
          </p:nvGrpSpPr>
          <p:grpSpPr>
            <a:xfrm>
              <a:off x="4952880" y="1903320"/>
              <a:ext cx="3428640" cy="3276360"/>
              <a:chOff x="4952880" y="1903320"/>
              <a:chExt cx="3428640" cy="3276360"/>
            </a:xfrm>
          </p:grpSpPr>
          <p:sp>
            <p:nvSpPr>
              <p:cNvPr id="196" name=""/>
              <p:cNvSpPr/>
              <p:nvPr/>
            </p:nvSpPr>
            <p:spPr>
              <a:xfrm>
                <a:off x="5714640" y="19033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476760" y="1903320"/>
                <a:ext cx="38052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238520" y="19033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000640" y="19033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952880" y="19033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952880" y="190332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952880" y="226728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952880" y="263124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952880" y="299520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952880" y="335952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952880" y="372348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952880" y="408744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952880" y="445176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952880" y="481572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 flipV="1">
              <a:off x="6505560" y="1828440"/>
              <a:ext cx="0" cy="3429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59280" y="2255760"/>
              <a:ext cx="3754440" cy="1800"/>
            </a:xfrm>
            <a:custGeom>
              <a:avLst/>
              <a:gdLst/>
              <a:ahLst/>
              <a:rect l="l" t="t" r="r" b="b"/>
              <a:pathLst>
                <a:path w="2365" h="1">
                  <a:moveTo>
                    <a:pt x="0" y="0"/>
                  </a:moveTo>
                  <a:lnTo>
                    <a:pt x="2365" y="0"/>
                  </a:lnTo>
                </a:path>
              </a:pathLst>
            </a:custGeom>
            <a:noFill/>
            <a:ln w="5724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727200" y="3832200"/>
                <a:ext cx="332244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4508640" y="5446800"/>
                <a:ext cx="2684160" cy="12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100320" y="2712960"/>
                <a:ext cx="10494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103480" y="2709720"/>
                <a:ext cx="10508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1284120" y="3287880"/>
            <a:ext cx="284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70720" y="423216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823000" y="42372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08560" y="4422600"/>
            <a:ext cx="15264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23040" y="370368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973920" y="370368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80000" y="150336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13720" y="150336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507960" y="4387680"/>
                <a:ext cx="1784520" cy="12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419120" y="4462560"/>
                <a:ext cx="2844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432080" y="5102280"/>
                <a:ext cx="5889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163600" y="4510080"/>
                <a:ext cx="117972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2898720" y="5165640"/>
                <a:ext cx="4078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4400" y="5796000"/>
                <a:ext cx="44352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036800" y="5670720"/>
                <a:ext cx="69840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689200" y="5665680"/>
                <a:ext cx="69840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811840" y="5433840"/>
                <a:ext cx="1353960" cy="126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5086440" y="27655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378560" y="276228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67120" y="1536840"/>
            <a:ext cx="3033720" cy="2960640"/>
          </a:xfrm>
          <a:custGeom>
            <a:avLst/>
            <a:gdLst/>
            <a:ahLst/>
            <a:rect l="l" t="t" r="r" b="b"/>
            <a:pathLst>
              <a:path w="1911" h="1865">
                <a:moveTo>
                  <a:pt x="0" y="25"/>
                </a:moveTo>
                <a:cubicBezTo>
                  <a:pt x="83" y="301"/>
                  <a:pt x="167" y="578"/>
                  <a:pt x="245" y="809"/>
                </a:cubicBezTo>
                <a:cubicBezTo>
                  <a:pt x="323" y="1040"/>
                  <a:pt x="387" y="1253"/>
                  <a:pt x="465" y="1410"/>
                </a:cubicBezTo>
                <a:cubicBezTo>
                  <a:pt x="543" y="1567"/>
                  <a:pt x="626" y="1678"/>
                  <a:pt x="710" y="1753"/>
                </a:cubicBezTo>
                <a:cubicBezTo>
                  <a:pt x="794" y="1828"/>
                  <a:pt x="886" y="1865"/>
                  <a:pt x="968" y="1863"/>
                </a:cubicBezTo>
                <a:cubicBezTo>
                  <a:pt x="1050" y="1861"/>
                  <a:pt x="1121" y="1816"/>
                  <a:pt x="1201" y="1740"/>
                </a:cubicBezTo>
                <a:cubicBezTo>
                  <a:pt x="1281" y="1664"/>
                  <a:pt x="1362" y="1563"/>
                  <a:pt x="1446" y="1410"/>
                </a:cubicBezTo>
                <a:cubicBezTo>
                  <a:pt x="1530" y="1257"/>
                  <a:pt x="1625" y="1056"/>
                  <a:pt x="1703" y="821"/>
                </a:cubicBezTo>
                <a:cubicBezTo>
                  <a:pt x="1781" y="586"/>
                  <a:pt x="1876" y="137"/>
                  <a:pt x="1911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8282160" y="5883120"/>
                <a:ext cx="41256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ldren%20big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n Equation Graph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565200" y="2124000"/>
                <a:ext cx="35146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252360" y="1168560"/>
            <a:ext cx="889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 graphically. Check the solutions algebraic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5175360" y="1752480"/>
            <a:ext cx="1673280" cy="1341360"/>
            <a:chOff x="5175360" y="1752480"/>
            <a:chExt cx="1673280" cy="1341360"/>
          </a:xfrm>
        </p:grpSpPr>
        <p:sp>
          <p:nvSpPr>
            <p:cNvPr id="242" name=""/>
            <p:cNvSpPr/>
            <p:nvPr/>
          </p:nvSpPr>
          <p:spPr>
            <a:xfrm>
              <a:off x="5175360" y="1752480"/>
              <a:ext cx="1673280" cy="134136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5486400" y="1876320"/>
                  <a:ext cx="960480" cy="50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268960" y="2400480"/>
                <a:ext cx="9604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238800" y="2401920"/>
                <a:ext cx="4129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603360" y="2813040"/>
                <a:ext cx="401796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16120" y="2965320"/>
                <a:ext cx="82224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544840" y="2962440"/>
                <a:ext cx="82224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60480" y="3657600"/>
                <a:ext cx="6397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568520" y="3656160"/>
                <a:ext cx="82224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359080" y="3630600"/>
                <a:ext cx="10969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3483000" y="3930480"/>
            <a:ext cx="117360" cy="155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579840" y="3774600"/>
            <a:ext cx="233280" cy="311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696960" y="4405320"/>
                <a:ext cx="401796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114560" y="4535640"/>
                <a:ext cx="4111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843280" y="4532400"/>
                <a:ext cx="41112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168560" y="5249880"/>
                <a:ext cx="4111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662120" y="5226120"/>
                <a:ext cx="8222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452680" y="5222880"/>
                <a:ext cx="10969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3576600" y="5522760"/>
            <a:ext cx="117360" cy="155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673440" y="5366880"/>
            <a:ext cx="233280" cy="311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6321600" y="4683240"/>
            <a:ext cx="685800" cy="231840"/>
            <a:chOff x="6321600" y="4683240"/>
            <a:chExt cx="685800" cy="231840"/>
          </a:xfrm>
        </p:grpSpPr>
        <p:sp>
          <p:nvSpPr>
            <p:cNvPr id="263" name=""/>
            <p:cNvSpPr/>
            <p:nvPr/>
          </p:nvSpPr>
          <p:spPr>
            <a:xfrm>
              <a:off x="6707160" y="4695840"/>
              <a:ext cx="300240" cy="210960"/>
            </a:xfrm>
            <a:prstGeom prst="ellipse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21600" y="4683240"/>
              <a:ext cx="331560" cy="231840"/>
            </a:xfrm>
            <a:prstGeom prst="ellipse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n Equation Graph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04640" y="2124000"/>
                <a:ext cx="38354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252360" y="1168560"/>
            <a:ext cx="889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 graphically. Check the solutions algebraic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706320" y="3247920"/>
                <a:ext cx="26053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224160" y="3289320"/>
                <a:ext cx="8683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1" name=""/>
          <p:cNvGrpSpPr/>
          <p:nvPr/>
        </p:nvGrpSpPr>
        <p:grpSpPr>
          <a:xfrm>
            <a:off x="7218360" y="5234040"/>
            <a:ext cx="1673280" cy="1341360"/>
            <a:chOff x="7218360" y="5234040"/>
            <a:chExt cx="1673280" cy="1341360"/>
          </a:xfrm>
        </p:grpSpPr>
        <p:sp>
          <p:nvSpPr>
            <p:cNvPr id="272" name=""/>
            <p:cNvSpPr/>
            <p:nvPr/>
          </p:nvSpPr>
          <p:spPr>
            <a:xfrm>
              <a:off x="7218360" y="5234040"/>
              <a:ext cx="1673280" cy="134136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7529400" y="5357880"/>
                  <a:ext cx="960480" cy="50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7553160" y="5881680"/>
                <a:ext cx="59544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5" name=""/>
          <p:cNvGrpSpPr/>
          <p:nvPr/>
        </p:nvGrpSpPr>
        <p:grpSpPr>
          <a:xfrm>
            <a:off x="4800600" y="1828440"/>
            <a:ext cx="3754440" cy="3429000"/>
            <a:chOff x="4800600" y="1828440"/>
            <a:chExt cx="3754440" cy="3429000"/>
          </a:xfrm>
        </p:grpSpPr>
        <p:grpSp>
          <p:nvGrpSpPr>
            <p:cNvPr id="276" name=""/>
            <p:cNvGrpSpPr/>
            <p:nvPr/>
          </p:nvGrpSpPr>
          <p:grpSpPr>
            <a:xfrm>
              <a:off x="4952880" y="1903320"/>
              <a:ext cx="3428640" cy="3276360"/>
              <a:chOff x="4952880" y="1903320"/>
              <a:chExt cx="3428640" cy="3276360"/>
            </a:xfrm>
          </p:grpSpPr>
          <p:sp>
            <p:nvSpPr>
              <p:cNvPr id="277" name=""/>
              <p:cNvSpPr/>
              <p:nvPr/>
            </p:nvSpPr>
            <p:spPr>
              <a:xfrm>
                <a:off x="5714640" y="19033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476760" y="1903320"/>
                <a:ext cx="38052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238520" y="19033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000640" y="19033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952880" y="19033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952880" y="190332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952880" y="226728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952880" y="263124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952880" y="299520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952880" y="335952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952880" y="372348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952880" y="408744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952880" y="445176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952880" y="481572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 flipV="1">
              <a:off x="5727600" y="1828440"/>
              <a:ext cx="0" cy="3429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00600" y="4824360"/>
              <a:ext cx="3754440" cy="1800"/>
            </a:xfrm>
            <a:custGeom>
              <a:avLst/>
              <a:gdLst/>
              <a:ahLst/>
              <a:rect l="l" t="t" r="r" b="b"/>
              <a:pathLst>
                <a:path w="2365" h="1">
                  <a:moveTo>
                    <a:pt x="0" y="0"/>
                  </a:moveTo>
                  <a:lnTo>
                    <a:pt x="2365" y="0"/>
                  </a:lnTo>
                </a:path>
              </a:pathLst>
            </a:custGeom>
            <a:noFill/>
            <a:ln w="5724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704880" y="3832200"/>
                <a:ext cx="336708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654440" y="5397480"/>
                <a:ext cx="2349720" cy="12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408480" y="2671920"/>
                <a:ext cx="8222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217600" y="2687760"/>
                <a:ext cx="82260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1284120" y="3287880"/>
            <a:ext cx="284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58080" y="442764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191280" y="441324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616800" y="481176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810400" y="335448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364520" y="33354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507960" y="4387680"/>
                <a:ext cx="1784520" cy="12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197000" y="4441680"/>
                <a:ext cx="73008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432080" y="5102280"/>
                <a:ext cx="5889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325600" y="4510080"/>
                <a:ext cx="85428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762280" y="5129280"/>
                <a:ext cx="4078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-6480" y="5796000"/>
                <a:ext cx="44784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176480" y="5670720"/>
                <a:ext cx="41904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003480" y="5643720"/>
                <a:ext cx="41904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5843520" y="5373720"/>
                <a:ext cx="82080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5415120" y="163836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726320" y="16351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8185320" y="5883120"/>
                <a:ext cx="41256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5486400" y="1711440"/>
            <a:ext cx="2314440" cy="3211560"/>
          </a:xfrm>
          <a:custGeom>
            <a:avLst/>
            <a:gdLst/>
            <a:ahLst/>
            <a:rect l="l" t="t" r="r" b="b"/>
            <a:pathLst>
              <a:path w="1458" h="2023">
                <a:moveTo>
                  <a:pt x="0" y="0"/>
                </a:moveTo>
                <a:cubicBezTo>
                  <a:pt x="81" y="398"/>
                  <a:pt x="163" y="797"/>
                  <a:pt x="245" y="1091"/>
                </a:cubicBezTo>
                <a:cubicBezTo>
                  <a:pt x="327" y="1385"/>
                  <a:pt x="404" y="1610"/>
                  <a:pt x="490" y="1765"/>
                </a:cubicBezTo>
                <a:cubicBezTo>
                  <a:pt x="576" y="1920"/>
                  <a:pt x="680" y="2023"/>
                  <a:pt x="760" y="2023"/>
                </a:cubicBezTo>
                <a:cubicBezTo>
                  <a:pt x="840" y="2023"/>
                  <a:pt x="888" y="1924"/>
                  <a:pt x="968" y="1765"/>
                </a:cubicBezTo>
                <a:cubicBezTo>
                  <a:pt x="1048" y="1606"/>
                  <a:pt x="1156" y="1361"/>
                  <a:pt x="1238" y="1067"/>
                </a:cubicBezTo>
                <a:cubicBezTo>
                  <a:pt x="1320" y="773"/>
                  <a:pt x="1421" y="178"/>
                  <a:pt x="1458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0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ldren%20big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n Equation Graph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404640" y="2124000"/>
                <a:ext cx="38354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252360" y="1168560"/>
            <a:ext cx="889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 graphically. Check the solutions algebraic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5175360" y="1752480"/>
            <a:ext cx="1673280" cy="1341360"/>
            <a:chOff x="5175360" y="1752480"/>
            <a:chExt cx="1673280" cy="1341360"/>
          </a:xfrm>
        </p:grpSpPr>
        <p:sp>
          <p:nvSpPr>
            <p:cNvPr id="321" name=""/>
            <p:cNvSpPr/>
            <p:nvPr/>
          </p:nvSpPr>
          <p:spPr>
            <a:xfrm>
              <a:off x="5175360" y="1752480"/>
              <a:ext cx="1673280" cy="134136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5486400" y="1876320"/>
                  <a:ext cx="960480" cy="50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548320" y="2400480"/>
                <a:ext cx="59364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238800" y="2401920"/>
                <a:ext cx="4129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442800" y="2813040"/>
                <a:ext cx="43387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880920" y="2946240"/>
                <a:ext cx="45720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2805120" y="2962440"/>
                <a:ext cx="4557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1071720" y="3660840"/>
                <a:ext cx="45540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531800" y="3633840"/>
                <a:ext cx="10512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2509920" y="3627360"/>
                <a:ext cx="11872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>
            <a:off x="3678120" y="3949560"/>
            <a:ext cx="117720" cy="155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774960" y="3793680"/>
            <a:ext cx="233640" cy="311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538200" y="4405320"/>
                <a:ext cx="43369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958680" y="4535640"/>
                <a:ext cx="4114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2959200" y="4532400"/>
                <a:ext cx="41112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168560" y="5249880"/>
                <a:ext cx="4111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585800" y="5226120"/>
                <a:ext cx="10512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2603520" y="5238720"/>
                <a:ext cx="11872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3772080" y="5560920"/>
            <a:ext cx="117360" cy="155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868560" y="5405400"/>
            <a:ext cx="233640" cy="311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500"/>
                            </p:stCondLst>
                            <p:childTnLst>
                              <p:par>
                                <p:cTn id="8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500"/>
                            </p:stCondLst>
                            <p:childTnLst>
                              <p:par>
                                <p:cTn id="9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500"/>
                            </p:stCondLst>
                            <p:childTnLst>
                              <p:par>
                                <p:cTn id="9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n Equation Graph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579600" y="2143080"/>
                <a:ext cx="35607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252360" y="1168560"/>
            <a:ext cx="889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 graphically. Check the solutions algebraic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728640" y="3247920"/>
                <a:ext cx="25592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3224160" y="3289320"/>
                <a:ext cx="8683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7" name=""/>
          <p:cNvGrpSpPr/>
          <p:nvPr/>
        </p:nvGrpSpPr>
        <p:grpSpPr>
          <a:xfrm>
            <a:off x="7218360" y="5234040"/>
            <a:ext cx="1673280" cy="1341360"/>
            <a:chOff x="7218360" y="5234040"/>
            <a:chExt cx="1673280" cy="1341360"/>
          </a:xfrm>
        </p:grpSpPr>
        <p:sp>
          <p:nvSpPr>
            <p:cNvPr id="348" name=""/>
            <p:cNvSpPr/>
            <p:nvPr/>
          </p:nvSpPr>
          <p:spPr>
            <a:xfrm>
              <a:off x="7218360" y="5234040"/>
              <a:ext cx="1673280" cy="134136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9" name=""/>
                <p:cNvSpPr txBox="1"/>
                <p:nvPr/>
              </p:nvSpPr>
              <p:spPr>
                <a:xfrm>
                  <a:off x="7529400" y="5357880"/>
                  <a:ext cx="960480" cy="50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7334280" y="5861160"/>
                <a:ext cx="86976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727200" y="3832200"/>
                <a:ext cx="332244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4654440" y="5397480"/>
                <a:ext cx="2349720" cy="12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370320" y="2671920"/>
                <a:ext cx="8222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2217600" y="2687760"/>
                <a:ext cx="82260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5" name=""/>
          <p:cNvSpPr/>
          <p:nvPr/>
        </p:nvSpPr>
        <p:spPr>
          <a:xfrm>
            <a:off x="1284120" y="3287880"/>
            <a:ext cx="284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507960" y="4387680"/>
                <a:ext cx="1784520" cy="12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1197000" y="4441680"/>
                <a:ext cx="73008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1432080" y="5102280"/>
                <a:ext cx="5889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2325600" y="4510080"/>
                <a:ext cx="85428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2762280" y="5129280"/>
                <a:ext cx="4078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-6480" y="5796000"/>
                <a:ext cx="44784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1176480" y="5670720"/>
                <a:ext cx="41904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3003480" y="5643720"/>
                <a:ext cx="41904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5576760" y="5373720"/>
                <a:ext cx="135432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8163000" y="5883120"/>
                <a:ext cx="45864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6" name=""/>
          <p:cNvGrpSpPr/>
          <p:nvPr/>
        </p:nvGrpSpPr>
        <p:grpSpPr>
          <a:xfrm>
            <a:off x="5025960" y="2122560"/>
            <a:ext cx="3227040" cy="280440"/>
            <a:chOff x="5025960" y="2122560"/>
            <a:chExt cx="3227040" cy="280440"/>
          </a:xfrm>
        </p:grpSpPr>
        <p:sp>
          <p:nvSpPr>
            <p:cNvPr id="367" name=""/>
            <p:cNvSpPr/>
            <p:nvPr/>
          </p:nvSpPr>
          <p:spPr>
            <a:xfrm>
              <a:off x="7669440" y="2134080"/>
              <a:ext cx="583560" cy="268920"/>
            </a:xfrm>
            <a:prstGeom prst="ellipse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25960" y="2122560"/>
              <a:ext cx="583560" cy="268920"/>
            </a:xfrm>
            <a:prstGeom prst="ellipse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4859280" y="1828440"/>
            <a:ext cx="3754440" cy="3429000"/>
            <a:chOff x="4859280" y="1828440"/>
            <a:chExt cx="3754440" cy="3429000"/>
          </a:xfrm>
        </p:grpSpPr>
        <p:grpSp>
          <p:nvGrpSpPr>
            <p:cNvPr id="370" name=""/>
            <p:cNvGrpSpPr/>
            <p:nvPr/>
          </p:nvGrpSpPr>
          <p:grpSpPr>
            <a:xfrm>
              <a:off x="4952880" y="1903320"/>
              <a:ext cx="3428640" cy="3276360"/>
              <a:chOff x="4952880" y="1903320"/>
              <a:chExt cx="3428640" cy="3276360"/>
            </a:xfrm>
          </p:grpSpPr>
          <p:sp>
            <p:nvSpPr>
              <p:cNvPr id="371" name=""/>
              <p:cNvSpPr/>
              <p:nvPr/>
            </p:nvSpPr>
            <p:spPr>
              <a:xfrm>
                <a:off x="5714640" y="19033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476760" y="1903320"/>
                <a:ext cx="38052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238520" y="19033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000640" y="19033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952880" y="19033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952880" y="190332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952880" y="226728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952880" y="263124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952880" y="299520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952880" y="335952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952880" y="372348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952880" y="408744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952880" y="445176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952880" y="481572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 flipV="1">
              <a:off x="5716440" y="1828440"/>
              <a:ext cx="0" cy="3429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59280" y="2255760"/>
              <a:ext cx="3754440" cy="1800"/>
            </a:xfrm>
            <a:custGeom>
              <a:avLst/>
              <a:gdLst/>
              <a:ahLst/>
              <a:rect l="l" t="t" r="r" b="b"/>
              <a:pathLst>
                <a:path w="2365" h="1">
                  <a:moveTo>
                    <a:pt x="0" y="0"/>
                  </a:moveTo>
                  <a:lnTo>
                    <a:pt x="2365" y="0"/>
                  </a:lnTo>
                </a:path>
              </a:pathLst>
            </a:custGeom>
            <a:noFill/>
            <a:ln w="5724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6967440" y="4251240"/>
            <a:ext cx="15264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219720" y="4255920"/>
            <a:ext cx="15264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605640" y="444168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819760" y="372276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370640" y="372276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76720" y="152244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110440" y="152244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483160" y="278460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75640" y="278136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164200" y="1555920"/>
            <a:ext cx="3033720" cy="2960640"/>
          </a:xfrm>
          <a:custGeom>
            <a:avLst/>
            <a:gdLst/>
            <a:ahLst/>
            <a:rect l="l" t="t" r="r" b="b"/>
            <a:pathLst>
              <a:path w="1911" h="1865">
                <a:moveTo>
                  <a:pt x="0" y="25"/>
                </a:moveTo>
                <a:cubicBezTo>
                  <a:pt x="83" y="301"/>
                  <a:pt x="167" y="578"/>
                  <a:pt x="245" y="809"/>
                </a:cubicBezTo>
                <a:cubicBezTo>
                  <a:pt x="323" y="1040"/>
                  <a:pt x="387" y="1253"/>
                  <a:pt x="465" y="1410"/>
                </a:cubicBezTo>
                <a:cubicBezTo>
                  <a:pt x="543" y="1567"/>
                  <a:pt x="626" y="1678"/>
                  <a:pt x="710" y="1753"/>
                </a:cubicBezTo>
                <a:cubicBezTo>
                  <a:pt x="794" y="1828"/>
                  <a:pt x="886" y="1865"/>
                  <a:pt x="968" y="1863"/>
                </a:cubicBezTo>
                <a:cubicBezTo>
                  <a:pt x="1050" y="1861"/>
                  <a:pt x="1121" y="1816"/>
                  <a:pt x="1201" y="1740"/>
                </a:cubicBezTo>
                <a:cubicBezTo>
                  <a:pt x="1281" y="1664"/>
                  <a:pt x="1362" y="1563"/>
                  <a:pt x="1446" y="1410"/>
                </a:cubicBezTo>
                <a:cubicBezTo>
                  <a:pt x="1530" y="1257"/>
                  <a:pt x="1625" y="1056"/>
                  <a:pt x="1703" y="821"/>
                </a:cubicBezTo>
                <a:cubicBezTo>
                  <a:pt x="1781" y="586"/>
                  <a:pt x="1876" y="137"/>
                  <a:pt x="1911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500"/>
                            </p:stCondLst>
                            <p:childTnLst>
                              <p:par>
                                <p:cTn id="9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000"/>
                            </p:stCondLst>
                            <p:childTnLst>
                              <p:par>
                                <p:cTn id="9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ldren%20big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n Equation Graph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42880" y="2124000"/>
                <a:ext cx="35593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252360" y="1168560"/>
            <a:ext cx="889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 graphically. Check the solutions algebraic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5175360" y="1752480"/>
            <a:ext cx="1673280" cy="1341360"/>
            <a:chOff x="5175360" y="1752480"/>
            <a:chExt cx="1673280" cy="1341360"/>
          </a:xfrm>
        </p:grpSpPr>
        <p:sp>
          <p:nvSpPr>
            <p:cNvPr id="402" name=""/>
            <p:cNvSpPr/>
            <p:nvPr/>
          </p:nvSpPr>
          <p:spPr>
            <a:xfrm>
              <a:off x="5175360" y="1752480"/>
              <a:ext cx="1673280" cy="134136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3" name=""/>
                <p:cNvSpPr txBox="1"/>
                <p:nvPr/>
              </p:nvSpPr>
              <p:spPr>
                <a:xfrm>
                  <a:off x="5486400" y="1876320"/>
                  <a:ext cx="960480" cy="50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315040" y="2400480"/>
                <a:ext cx="868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6216480" y="2401920"/>
                <a:ext cx="4590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603360" y="2813040"/>
                <a:ext cx="401796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861840" y="2965320"/>
                <a:ext cx="73044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2805120" y="2941560"/>
                <a:ext cx="7300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1158840" y="3641760"/>
                <a:ext cx="3189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568520" y="3633840"/>
                <a:ext cx="8222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2473200" y="3627360"/>
                <a:ext cx="8683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3483000" y="3930480"/>
            <a:ext cx="117360" cy="155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3579840" y="3774600"/>
            <a:ext cx="233280" cy="311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696960" y="4405320"/>
                <a:ext cx="401796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1092240" y="4535640"/>
                <a:ext cx="4572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3054240" y="4513320"/>
                <a:ext cx="4572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246320" y="5288040"/>
                <a:ext cx="6840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1933560" y="5264280"/>
                <a:ext cx="10969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2975040" y="5238720"/>
                <a:ext cx="8683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0" name=""/>
          <p:cNvSpPr/>
          <p:nvPr/>
        </p:nvSpPr>
        <p:spPr>
          <a:xfrm>
            <a:off x="3984480" y="5560920"/>
            <a:ext cx="117720" cy="155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4081320" y="5405400"/>
            <a:ext cx="233640" cy="311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1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500"/>
                            </p:stCondLst>
                            <p:childTnLst>
                              <p:par>
                                <p:cTn id="1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2T18:20:39Z</dcterms:created>
  <dc:creator>Don Helms</dc:creator>
  <dc:description/>
  <dc:language>en-US</dc:language>
  <cp:lastModifiedBy>damon.skelton</cp:lastModifiedBy>
  <dcterms:modified xsi:type="dcterms:W3CDTF">2006-01-20T14:51:19Z</dcterms:modified>
  <cp:revision>42</cp:revision>
  <dc:subject/>
  <dc:title>No Slide Title</dc:title>
</cp:coreProperties>
</file>